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B7A-F4A1-4853-852D-AB5035E6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BDD-46B7-460D-BB62-6346856F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785-EDEC-4146-81C7-C26975A8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1DB-1BDD-49FC-937D-23F93745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BC3-4323-41AA-BC06-878CA63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88C-A4EF-4537-A6D2-5F479C60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744-4E0A-4DB5-9736-8AC28155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59A-FFD5-481A-9580-B2231AF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B51-F354-4745-AC52-AE8FA11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22C-1899-40BB-A0B7-34C7AC9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58E-4795-4E21-8DCA-B01FF4F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A51-558C-4C2D-9DCA-A5B15E9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D92-13CC-4371-8272-168896E4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553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ll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246320" cy="18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5029200"/>
            <a:ext cx="5410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d by St. Jud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ed by the Art &amp; Technolog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 became the1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esident of the United States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c &amp; Cam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43000" y="2706840"/>
          <a:ext cx="74674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06840"/>
                    <a:ext cx="74674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led the country during the American Civil W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334120"/>
            <a:ext cx="6095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tee &amp; Matt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2263680"/>
            <a:ext cx="30481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3520" y="609120"/>
            <a:ext cx="53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Score"/>
                <a:ea typeface="Times New Roman"/>
              </a:rPr>
              <a:t>He put an end to evil sl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81080" y="2057400"/>
          <a:ext cx="411984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4119840" cy="2913120"/>
                  </a:xfrm>
                  <a:prstGeom prst="rect">
                    <a:avLst/>
                  </a:prstGeom>
                  <a:ln w="12708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652640" y="5790240"/>
            <a:ext cx="370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BoScore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00ff"/>
                </a:solidFill>
                <a:latin typeface="BoScore"/>
                <a:ea typeface="Times New Roman"/>
              </a:rPr>
              <a:t>By: Allison and Kar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81040" y="762120"/>
            <a:ext cx="7981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676520"/>
          <a:ext cx="8869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8869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228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Lincoln was the first president to have a beard. Lincoln was fond of pets, and owed horses, cats, dogs, and a tur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 Ben, Evan, and D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ryn &amp; Pa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 was president for 4 years      1861-1865, before he was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096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852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768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ham Lincoln was born on February 12, 1809 in Kentu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056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19051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 &amp; Lu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467" t="6251" r="7032" b="13540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4290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very an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371600" y="228600"/>
            <a:ext cx="6781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Abe Lincoln had one sister Sarah and a brother Thomas who died as a baby.  He also had a step brother and two step sis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"/>
              </a:rPr>
              <a:t>by: Anna &amp; E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049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braham Lincoln left Indiana when he became an adult and made the state of Illinois his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324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y: Hillary and G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9360" y="1066680"/>
            <a:ext cx="915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429000" y="1295280"/>
            <a:ext cx="5334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hough he had little formal schooling, Abraham Lincoln became a lawy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nevieve &amp; Isaa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Abraham Lincoln love to tell stories and jokes to friends and family.</a:t>
            </a:r>
            <a:br>
              <a:rPr sz="4000"/>
            </a:b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de and Car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990720"/>
          <a:ext cx="91234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234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wife was Mary Todd Lincoln, who came from a very wealthy famil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62784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Lizzie and G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4960" y="1214280"/>
            <a:ext cx="7534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5Z</dcterms:created>
  <dc:creator>Patrick J. Mooney</dc:creator>
  <dc:description/>
  <dc:language>en-US</dc:language>
  <cp:lastModifiedBy>Patrick J. Mooney</cp:lastModifiedBy>
  <dcterms:modified xsi:type="dcterms:W3CDTF">2010-02-09T19:09:32Z</dcterms:modified>
  <cp:revision>10</cp:revision>
  <dc:subject/>
  <dc:title>Slide 1</dc:title>
</cp:coreProperties>
</file>